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5B6-A509-402A-B48E-77204E5E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E78-40C9-4563-9075-A91EB598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C2D4-4E42-4AA0-B61D-9089AB6F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A6C16-9747-4008-85B3-6165328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D77EA-21D4-45B1-9372-7CBE467E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4BEE6-CF58-4714-A225-C4DC102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D9CF0-5DFE-47C8-888B-7FA0F2F2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211F3-6D94-4CCB-912F-3B5D88D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D84E8-4432-44B0-AA94-9677D8CD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8E73F-A66F-4F71-B64A-34A68989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02237-770F-4C4B-8025-62C99897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2A8F3-2F46-43BA-8AD9-58135C01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845-92CF-4964-BEF6-9B383637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43522-2A15-4AFA-8FFF-30ED3A7F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43E11-96E5-4FD6-AABD-901EE5AE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E6E8A-CFF7-4BC4-8D97-441EEF6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F1AB7-4003-4761-BAA0-B8FBB51A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2291A-2C05-4B6B-8348-8C49AAF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E52C8-4B8B-49E8-89FA-6AF358C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26B9A-4559-4C32-AE1A-14AD469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A974C-CFA9-45A6-A1A2-B66D68E5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8BF76-F70D-4693-8D1B-4BA3302D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8D772-AD5C-4DD8-B90D-0B265B05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A64-8E44-480D-AC3E-22E5B7D8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77229-4FE6-40A9-8D98-D1437467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136AA-96C7-4E2B-89BC-CBF10A52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1468E-A54A-42D3-AEA3-9E42F6E4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008E-8446-484D-9A32-13FDD9C8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6DAA-F30F-4FF1-9DFF-D3B33D3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070EF-E28D-4A7C-9119-A98BBB4D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7ED8-8DE9-46CE-BE93-9CFED8B2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83751-32A3-4A1D-BF00-D672441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5BFE9-1535-43E8-8D0E-126BC39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A7CB7-0F70-403D-B403-F27D667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C06A-AD99-4269-9672-CCD753F8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0EA8C-5978-4CF0-B941-89B417DE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78715-473F-40C7-B723-835E7C08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1A85D-B00A-473B-8ABD-693A4746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AAD62-89C2-4589-A383-3D4F61C8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3CC56-1BD8-4D74-8836-EA1996A2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94253-FFD5-4F2F-AF3B-9DD7B1EE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E4E1F-188D-498E-A0C6-B59D9184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445EF-F01A-4353-8859-E955B72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C4B7C-CECC-4A14-992B-9B7BF9C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76A25-E0BF-4CE7-BBE6-C13FFCE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A1FB-F03E-4CDE-961B-D0C1585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D701D-5707-4B75-9F8E-86F51DE4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9C6D1-94AD-4EF8-AE82-BCD1CE5D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64E81-9BCC-4600-99D3-C7B0608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4A077-8D85-4420-A69E-367C461B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C7E18-11A1-4982-ACB5-C674FC5B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3FE14-6F16-41AA-8A0F-FCC3C96F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81EDB-601B-4440-9155-ACC8D49C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466D9-65A9-4B44-AD58-05C92D6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899BB-BD80-4B97-9DFF-5176C48F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5F91C-BFE8-4372-8CD0-5FE57BEC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BD17-81AC-4C88-AE14-9BA06E3D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12260-88D1-4F1A-93CC-D3E53E1F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4B4DF-C053-4FDE-AAA3-5C4A1F90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845AC-357A-41C8-A062-54B61E4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86FB6-0623-49C5-B069-885C4D09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AA368-7B96-44E6-9B2F-4723D909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52F42-BC48-4DD0-B063-AA058544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F51B7-1239-4F17-BA0F-F746E648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D7BB4-9C4E-493F-8BF0-D5300F71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65195-E962-469D-B4E5-F7F6A897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E09C5-36F7-41CA-A3B1-D4848EF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9A98-7DFC-4097-81BB-A3DBB8BB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4ED9A-85EF-4B60-BB48-3CA2AE8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A7185-57F8-42DD-88D8-7C74FD2D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EEEAD-4AD4-4C11-A100-708BBC0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E8995-4AAD-40AF-85E5-47EFAC6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2FA5C-1D02-495A-B2B3-48FCA8E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ACF10-A8EC-4D1C-83C7-818DEA6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551FA-CAF6-4945-BC82-4755CE28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BA411-0577-4FDD-B961-FD6EA262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37A26-BA16-4FC3-8176-74C2EB5C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2E983-C6AB-4C6F-BFAE-117D4C50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95E8-50C4-4BB7-9BC8-AB383A9B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1AF4D-48B4-48D8-8E2C-0885B359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6F07F-E8DC-47E6-B42A-69067D00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2B1A2-0892-4852-8C30-56816F58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99B54-9D9E-4A53-9308-31C1D3C4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80BA6-3F22-4CCF-9A1A-B09315B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801B4-56E4-4A52-A2AD-CB6BC7A6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DC895-796F-488F-BE06-8B30B6B5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70DD1-BD12-4DFA-806A-1FE156D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1247E-C9C5-40A0-BFC2-A506775A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13416-0B69-442C-BB73-28B449DE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71B9-4C13-4377-8F94-C7C0AC4E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F9500-4487-4345-BE59-66496078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3AC1F-78F9-49B9-8CA8-923C3E26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CA47E-68D6-4471-8872-A6288A8A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2605B-01BD-4EFB-8C96-CC7D5187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BA797-13A8-4FB4-952F-190D9689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78A66-395F-48F1-A472-7DC7827B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8323C-3E79-46F9-80EA-0C6C7000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05FD2-5CF1-4346-82CF-14F4D5A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99024-3C7D-435E-B30A-E7DCE59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5BECE-45B2-444F-A533-64A1004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CAB0-2D2F-45ED-AEFB-0290057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A1147-A09B-4ACC-B77C-0DB3E8DE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28B8B-4F66-4128-AE70-96CF926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BD8F6-803A-49E9-B638-65D25AEA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8A688-92CE-4784-AC55-4EDDB8C9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177BD-90D8-4FBE-8021-7A4F946B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79E83-4B90-4C75-A293-78606412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330EF-9640-43CF-B869-F7BBE9C7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1FF6B-F7F8-41B7-A951-8CC86A72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6565A-57E7-460A-9074-12E30550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3CB19-05A9-4A3A-B70D-47CC2DC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70B-48B8-415B-B35E-1707F6D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46AD-2E41-44D5-9CF9-1938E71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B7EC9-0F19-41FD-814F-8FA102D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2A21A-74E7-42EB-BC78-9F96456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DD6F2-4756-4834-B15E-124182BC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BE394-874E-4940-A09D-0B37CD55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6FE22-6A96-4579-8731-073895F6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7BD1-D799-4F31-8FBA-56FED65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4AF1-C01A-4D8B-9B4D-2A90A150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E1A4-B552-49BA-8D23-D4086BA9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1E79-5CC2-40FD-BB70-7040974C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604F-30ED-4143-A2EA-5933CBD6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E784-F240-4B82-9612-30D3888E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881C-7E04-4850-859D-541CCD3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DA20-3362-4B33-B89E-09C4B59F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CB4F-A2ED-49FA-A600-5A8FA895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2F5-A29B-49CA-B71D-D8391D6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3D83-6CE7-4C59-9DEB-0562CA9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C852-02D3-4A0E-83EF-5FE6B77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3002-2E35-491F-84D2-5D66EDB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3796-929B-46F3-9B8D-8536663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230E-9DA9-406B-8751-0E2307E0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C1E3-B746-4E77-A1F3-5A0FC5BE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66A9-37AF-4343-B343-9FEAC4C6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BB84-476D-4454-B627-7B9BE981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3354-3C06-44F4-9AC1-D7AE5DB1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6C11-1ED8-4775-B14B-A992C2D2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7F6-C5CD-495C-AF6F-FBF05220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D1817-5BF8-4881-A589-9C4CFDA0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6950-CDC4-4E15-AC51-715F2C9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CB26-D558-4D00-8718-54BA1E81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C598-ADE7-4A66-91E2-EEB8377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ABF5-7071-4D6F-88DE-11B8E8B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306B-82C2-4A3F-B047-35C9690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FD1DB-6EB4-42AA-8C21-36FC3BA6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88CC-CB21-4300-B591-B35D5B73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B2F46-4F52-47EE-AC2C-44AB9D9E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87BC-9E5F-4F6B-8E25-E80E63F3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2A3-270F-4766-B622-AC15F51F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A84B-CBAB-4ADC-9D21-F8EF7785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3B8C-57A3-4ABC-B1D4-43C8CF0E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C5FE-9DFA-45A8-A718-D33D8FE0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874B-8B34-455F-929E-BF6DE875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549B-AB21-4557-B4A8-AEDB95FA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51D7-6664-4653-A304-63D010D8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6C7A8-F4F8-489D-A7EB-A6755377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BF25-964C-4E14-BCE6-2351DEF1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7D8E-4F29-40ED-8E48-8F2C9FD1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7091-A507-4EF1-8C55-BBDCB26F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513-A56B-4FB7-90B1-F195F7A9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8C47-B61B-4A7B-B968-E46EB85E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7239-6023-463E-86AB-8260DB8C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D9EF-B25E-40E7-B30B-781904DB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FCF0-6DCD-4C04-8705-1D98CBB9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93772-D48E-4030-AF58-C6FE0408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B9F6-759E-4762-BE4E-2F20CE5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784FA-80E6-4D7D-8147-73E9594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7AC83-3DB0-4DF9-846A-367B91E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C77C4-C997-44F6-AA9E-3B47A8F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ED1EB-CFD7-40A9-9DED-BBF0829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9B4-C069-4A88-BD11-3F7ABCA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23CC9-4EE4-4022-8761-E923FD5C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9276-051B-4D72-8FDE-7766266B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9E8E-3376-4C62-80A3-FC82B38B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DFFA-5CF6-4306-A2AD-7759A9C3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CBF6D-D0FA-4F13-B1E5-7BBA2B3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99261-351F-4789-8FCC-C4C3FD4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5F75-DF27-4247-ABD3-579740CA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ED9AD-02E8-4D16-9DC4-11C9E7B3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8FE9-F71A-4B9E-8919-24EF3DA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FA95-7BE2-4E3F-B8C2-7BDB80A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98F-5F59-4074-8590-861A623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74E0-AAFC-4F34-B256-616E757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BCF7-CEE2-4D48-96E7-FA2C8EC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912E4-E54D-4242-92AA-8788530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1630-3CA2-4803-AF5F-F3A3B7BC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56174-32BB-4CEE-B72C-1C73D544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5213A-6720-49A0-BF95-1DAFDBC9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0A689-F50B-45F8-92D2-7A2FECE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0EAD-7151-4DDD-A70A-47DDDB52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89863-427E-4978-AF1E-B300CF5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EF23-1B90-4FB5-B0BD-43DC95E6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DEE-6ABE-433A-8FA8-56858A5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5740-B809-4415-8F71-52F363C8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FE47C-08DA-4514-BD03-217383D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1530A-3524-4A40-886E-FBE87CE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2B26-BA0F-475E-A889-178B2BE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DBAE1-113C-4252-8397-1C2ED530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F25A-26F2-4E2B-9B60-BE93516E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44D01-745A-4ECB-A4EA-5CF8DA06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00BF9-B363-4160-978B-A4DD55C8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E4039-0059-4ABD-A5B8-8CFD186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95C96-57DF-4A2D-B70F-AF730FBC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16F-FBCD-458D-A603-72408A5A11C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FA8E-1109-4B3E-AEB8-BF7396E6639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6830-7C55-4957-B93C-A6DD8C91D2B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DCF-4556-4783-9D0F-7609C5484CB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D78-A1CF-496C-8B78-C83B528A53B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922-8E25-43E4-8DF1-47621ABBC73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2E6-C6E3-4EC0-BA5B-2F2963DDB33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6370-4496-417C-9953-82130800FFA6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3232-EB56-47D4-B6A6-276DF70D832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A431-7193-49AB-BF59-CB8661EC1CF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4FF-739A-4E12-9CAE-AE1B889D2A6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DE81-0510-4E0F-A15D-60C07113811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2CA-B7ED-47DD-957A-2BE46D37E3EE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3155-242F-4F04-A162-817EA086046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86A-E2EA-474F-A4B3-78B0340F013E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4A7-19E3-4534-A1DE-4F8A42BD908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A0CD-9D40-4F7D-9F8E-5FF17C3C1A7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3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Learning Outco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38120" y="134604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 a ray diagram to find the position, nature and size of the image produced by a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27476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ame rules can be applied to convex mirr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convex mirror images ar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ir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1353960" y="2952720"/>
            <a:ext cx="5751720" cy="328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6" descr="j0237671"/>
          <p:cNvPicPr/>
          <p:nvPr/>
        </p:nvPicPr>
        <p:blipFill>
          <a:blip r:embed="rId1"/>
          <a:stretch/>
        </p:blipFill>
        <p:spPr>
          <a:xfrm>
            <a:off x="2065320" y="3297240"/>
            <a:ext cx="433440" cy="1527120"/>
          </a:xfrm>
          <a:prstGeom prst="rect">
            <a:avLst/>
          </a:prstGeom>
          <a:ln w="0">
            <a:noFill/>
          </a:ln>
        </p:spPr>
      </p:pic>
      <p:grpSp>
        <p:nvGrpSpPr>
          <p:cNvPr id="849" name="Group 20"/>
          <p:cNvGrpSpPr/>
          <p:nvPr/>
        </p:nvGrpSpPr>
        <p:grpSpPr>
          <a:xfrm>
            <a:off x="4754160" y="3511440"/>
            <a:ext cx="1682280" cy="2724120"/>
            <a:chOff x="4754160" y="3511440"/>
            <a:chExt cx="1682280" cy="2724120"/>
          </a:xfrm>
        </p:grpSpPr>
        <p:sp>
          <p:nvSpPr>
            <p:cNvPr id="850" name="AutoShape 9"/>
            <p:cNvSpPr/>
            <p:nvPr/>
          </p:nvSpPr>
          <p:spPr>
            <a:xfrm flipH="1">
              <a:off x="4753800" y="3727800"/>
              <a:ext cx="1567080" cy="23144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flipH="1">
              <a:off x="4862520" y="3781800"/>
              <a:ext cx="1551960" cy="22147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0"/>
            <p:cNvSpPr/>
            <p:nvPr/>
          </p:nvSpPr>
          <p:spPr>
            <a:xfrm flipH="1">
              <a:off x="5542200" y="3511440"/>
              <a:ext cx="893880" cy="27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11"/>
          <p:cNvSpPr/>
          <p:nvPr/>
        </p:nvSpPr>
        <p:spPr>
          <a:xfrm flipH="1">
            <a:off x="2087280" y="4835520"/>
            <a:ext cx="432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>
            <a:off x="6313320" y="4654440"/>
            <a:ext cx="190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3"/>
          <p:cNvSpPr/>
          <p:nvPr/>
        </p:nvSpPr>
        <p:spPr>
          <a:xfrm>
            <a:off x="2238480" y="3903840"/>
            <a:ext cx="2520720" cy="9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5"/>
          <p:cNvSpPr/>
          <p:nvPr/>
        </p:nvSpPr>
        <p:spPr>
          <a:xfrm>
            <a:off x="2247840" y="3868560"/>
            <a:ext cx="287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6"/>
          <p:cNvSpPr/>
          <p:nvPr/>
        </p:nvSpPr>
        <p:spPr>
          <a:xfrm flipH="1">
            <a:off x="2306160" y="4838760"/>
            <a:ext cx="245268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7"/>
          <p:cNvSpPr/>
          <p:nvPr/>
        </p:nvSpPr>
        <p:spPr>
          <a:xfrm>
            <a:off x="2266920" y="3911760"/>
            <a:ext cx="25369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8"/>
          <p:cNvSpPr/>
          <p:nvPr/>
        </p:nvSpPr>
        <p:spPr>
          <a:xfrm flipH="1" flipV="1">
            <a:off x="1601280" y="4419360"/>
            <a:ext cx="322596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9" descr="j0237671"/>
          <p:cNvPicPr/>
          <p:nvPr/>
        </p:nvPicPr>
        <p:blipFill>
          <a:blip r:embed="rId2"/>
          <a:stretch/>
        </p:blipFill>
        <p:spPr>
          <a:xfrm>
            <a:off x="5737320" y="4145040"/>
            <a:ext cx="191880" cy="681120"/>
          </a:xfrm>
          <a:prstGeom prst="rect">
            <a:avLst/>
          </a:prstGeom>
          <a:ln w="0">
            <a:noFill/>
          </a:ln>
        </p:spPr>
      </p:pic>
      <p:sp>
        <p:nvSpPr>
          <p:cNvPr id="861" name="Line 21"/>
          <p:cNvSpPr/>
          <p:nvPr/>
        </p:nvSpPr>
        <p:spPr>
          <a:xfrm>
            <a:off x="5124600" y="3867120"/>
            <a:ext cx="1749240" cy="139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2"/>
          <p:cNvSpPr/>
          <p:nvPr/>
        </p:nvSpPr>
        <p:spPr>
          <a:xfrm flipH="1" flipV="1">
            <a:off x="4141800" y="3092400"/>
            <a:ext cx="98280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3"/>
          <p:cNvSpPr/>
          <p:nvPr/>
        </p:nvSpPr>
        <p:spPr>
          <a:xfrm flipV="1">
            <a:off x="4819680" y="4416120"/>
            <a:ext cx="194796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4"/>
          <p:cNvSpPr/>
          <p:nvPr/>
        </p:nvSpPr>
        <p:spPr>
          <a:xfrm flipV="1">
            <a:off x="4749840" y="4133880"/>
            <a:ext cx="1768320" cy="70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2"/>
          <p:cNvSpPr/>
          <p:nvPr/>
        </p:nvSpPr>
        <p:spPr>
          <a:xfrm>
            <a:off x="1538280" y="28893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2"/>
          <p:cNvSpPr/>
          <p:nvPr/>
        </p:nvSpPr>
        <p:spPr>
          <a:xfrm>
            <a:off x="5157720" y="490860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2"/>
          <p:cNvSpPr/>
          <p:nvPr/>
        </p:nvSpPr>
        <p:spPr>
          <a:xfrm>
            <a:off x="6059520" y="44323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7680" y="-3816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5" descr="j0237671"/>
          <p:cNvPicPr/>
          <p:nvPr/>
        </p:nvPicPr>
        <p:blipFill>
          <a:blip r:embed="rId1"/>
          <a:stretch/>
        </p:blipFill>
        <p:spPr>
          <a:xfrm>
            <a:off x="4064040" y="423720"/>
            <a:ext cx="581040" cy="24116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j0238189"/>
          <p:cNvPicPr/>
          <p:nvPr/>
        </p:nvPicPr>
        <p:blipFill>
          <a:blip r:embed="rId2"/>
          <a:stretch/>
        </p:blipFill>
        <p:spPr>
          <a:xfrm rot="16200000">
            <a:off x="3305160" y="4187880"/>
            <a:ext cx="1396800" cy="790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9" descr="j0237671"/>
          <p:cNvPicPr/>
          <p:nvPr/>
        </p:nvPicPr>
        <p:blipFill>
          <a:blip r:embed="rId3"/>
          <a:stretch/>
        </p:blipFill>
        <p:spPr>
          <a:xfrm flipH="1">
            <a:off x="7437600" y="390600"/>
            <a:ext cx="620640" cy="2577960"/>
          </a:xfrm>
          <a:prstGeom prst="rect">
            <a:avLst/>
          </a:prstGeom>
          <a:ln w="0">
            <a:noFill/>
          </a:ln>
        </p:spPr>
      </p:pic>
      <p:sp>
        <p:nvSpPr>
          <p:cNvPr id="716" name="Line 31"/>
          <p:cNvSpPr/>
          <p:nvPr/>
        </p:nvSpPr>
        <p:spPr>
          <a:xfrm>
            <a:off x="5937120" y="309600"/>
            <a:ext cx="0" cy="46958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2"/>
          <p:cNvSpPr/>
          <p:nvPr/>
        </p:nvSpPr>
        <p:spPr>
          <a:xfrm>
            <a:off x="4241880" y="13892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3"/>
          <p:cNvSpPr/>
          <p:nvPr/>
        </p:nvSpPr>
        <p:spPr>
          <a:xfrm flipH="1">
            <a:off x="4235400" y="274320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4"/>
          <p:cNvSpPr/>
          <p:nvPr/>
        </p:nvSpPr>
        <p:spPr>
          <a:xfrm flipH="1">
            <a:off x="5915160" y="14144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5"/>
          <p:cNvSpPr/>
          <p:nvPr/>
        </p:nvSpPr>
        <p:spPr>
          <a:xfrm>
            <a:off x="4226040" y="138924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6"/>
          <p:cNvSpPr/>
          <p:nvPr/>
        </p:nvSpPr>
        <p:spPr>
          <a:xfrm flipV="1">
            <a:off x="4425840" y="3200400"/>
            <a:ext cx="1492200" cy="1603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7"/>
          <p:cNvSpPr/>
          <p:nvPr/>
        </p:nvSpPr>
        <p:spPr>
          <a:xfrm flipH="1">
            <a:off x="5945040" y="137952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0"/>
          <p:cNvSpPr/>
          <p:nvPr/>
        </p:nvSpPr>
        <p:spPr>
          <a:xfrm>
            <a:off x="5996160" y="326880"/>
            <a:ext cx="0" cy="464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3525840" y="526428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ight from object reflects into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3"/>
          <p:cNvSpPr/>
          <p:nvPr/>
        </p:nvSpPr>
        <p:spPr>
          <a:xfrm flipH="1">
            <a:off x="6458040" y="3203640"/>
            <a:ext cx="2419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ye see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ba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 i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laterally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39720" y="16524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Curved (Concave)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73120" y="4603680"/>
            <a:ext cx="85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 = pole 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a = princip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centre of curvature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radius of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point or focus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c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9"/>
          <p:cNvGrpSpPr/>
          <p:nvPr/>
        </p:nvGrpSpPr>
        <p:grpSpPr>
          <a:xfrm>
            <a:off x="731880" y="1198440"/>
            <a:ext cx="7698960" cy="2995560"/>
            <a:chOff x="731880" y="1198440"/>
            <a:chExt cx="7698960" cy="2995560"/>
          </a:xfrm>
        </p:grpSpPr>
        <p:sp>
          <p:nvSpPr>
            <p:cNvPr id="729" name="Rectangle 5"/>
            <p:cNvSpPr/>
            <p:nvPr/>
          </p:nvSpPr>
          <p:spPr>
            <a:xfrm>
              <a:off x="731880" y="1198440"/>
              <a:ext cx="7698960" cy="299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7"/>
            <p:cNvSpPr/>
            <p:nvPr/>
          </p:nvSpPr>
          <p:spPr>
            <a:xfrm>
              <a:off x="5409720" y="1353960"/>
              <a:ext cx="2079000" cy="26755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8"/>
            <p:cNvSpPr/>
            <p:nvPr/>
          </p:nvSpPr>
          <p:spPr>
            <a:xfrm>
              <a:off x="5227920" y="1489680"/>
              <a:ext cx="2100240" cy="24264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9"/>
            <p:cNvSpPr/>
            <p:nvPr/>
          </p:nvSpPr>
          <p:spPr>
            <a:xfrm>
              <a:off x="4931640" y="1274400"/>
              <a:ext cx="1557720" cy="285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0"/>
            <p:cNvSpPr/>
            <p:nvPr/>
          </p:nvSpPr>
          <p:spPr>
            <a:xfrm flipH="1">
              <a:off x="890280" y="2646720"/>
              <a:ext cx="6367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1"/>
            <p:cNvSpPr/>
            <p:nvPr/>
          </p:nvSpPr>
          <p:spPr>
            <a:xfrm>
              <a:off x="4912560" y="2545200"/>
              <a:ext cx="234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0"/>
            <p:cNvSpPr/>
            <p:nvPr/>
          </p:nvSpPr>
          <p:spPr>
            <a:xfrm>
              <a:off x="2852640" y="2541960"/>
              <a:ext cx="2340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1"/>
            <p:cNvSpPr/>
            <p:nvPr/>
          </p:nvSpPr>
          <p:spPr>
            <a:xfrm>
              <a:off x="2562480" y="2747880"/>
              <a:ext cx="5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22"/>
            <p:cNvSpPr/>
            <p:nvPr/>
          </p:nvSpPr>
          <p:spPr>
            <a:xfrm>
              <a:off x="4548600" y="2698920"/>
              <a:ext cx="83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23"/>
            <p:cNvSpPr/>
            <p:nvPr/>
          </p:nvSpPr>
          <p:spPr>
            <a:xfrm>
              <a:off x="6718680" y="2633760"/>
              <a:ext cx="7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4"/>
            <p:cNvSpPr/>
            <p:nvPr/>
          </p:nvSpPr>
          <p:spPr>
            <a:xfrm>
              <a:off x="2856960" y="2341800"/>
              <a:ext cx="442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25"/>
            <p:cNvSpPr/>
            <p:nvPr/>
          </p:nvSpPr>
          <p:spPr>
            <a:xfrm>
              <a:off x="3172320" y="1962360"/>
              <a:ext cx="37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26"/>
            <p:cNvSpPr/>
            <p:nvPr/>
          </p:nvSpPr>
          <p:spPr>
            <a:xfrm>
              <a:off x="1004760" y="2391840"/>
              <a:ext cx="10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7"/>
            <p:cNvSpPr/>
            <p:nvPr/>
          </p:nvSpPr>
          <p:spPr>
            <a:xfrm flipV="1">
              <a:off x="4954680" y="3065040"/>
              <a:ext cx="23266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28"/>
            <p:cNvSpPr/>
            <p:nvPr/>
          </p:nvSpPr>
          <p:spPr>
            <a:xfrm>
              <a:off x="5723280" y="3052440"/>
              <a:ext cx="8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parallel to the pa is reflected back through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2438280" y="2913120"/>
            <a:ext cx="5005440" cy="360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7"/>
          <p:cNvGrpSpPr/>
          <p:nvPr/>
        </p:nvGrpSpPr>
        <p:grpSpPr>
          <a:xfrm>
            <a:off x="4889520" y="3435480"/>
            <a:ext cx="1601640" cy="2622240"/>
            <a:chOff x="4889520" y="3435480"/>
            <a:chExt cx="1601640" cy="2622240"/>
          </a:xfrm>
        </p:grpSpPr>
        <p:sp>
          <p:nvSpPr>
            <p:cNvPr id="748" name="AutoShape 8"/>
            <p:cNvSpPr/>
            <p:nvPr/>
          </p:nvSpPr>
          <p:spPr>
            <a:xfrm>
              <a:off x="5140080" y="3519360"/>
              <a:ext cx="1351080" cy="2455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9"/>
            <p:cNvSpPr/>
            <p:nvPr/>
          </p:nvSpPr>
          <p:spPr>
            <a:xfrm>
              <a:off x="5021640" y="3644280"/>
              <a:ext cx="1364760" cy="22280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4889520" y="3435480"/>
              <a:ext cx="778680" cy="262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Line 11"/>
          <p:cNvSpPr/>
          <p:nvPr/>
        </p:nvSpPr>
        <p:spPr>
          <a:xfrm flipH="1">
            <a:off x="2642760" y="4746600"/>
            <a:ext cx="369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"/>
          <p:cNvSpPr/>
          <p:nvPr/>
        </p:nvSpPr>
        <p:spPr>
          <a:xfrm>
            <a:off x="5288040" y="4570560"/>
            <a:ext cx="1404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3"/>
          <p:cNvSpPr/>
          <p:nvPr/>
        </p:nvSpPr>
        <p:spPr>
          <a:xfrm>
            <a:off x="2774880" y="38512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4"/>
          <p:cNvSpPr/>
          <p:nvPr/>
        </p:nvSpPr>
        <p:spPr>
          <a:xfrm flipH="1">
            <a:off x="4493880" y="3851280"/>
            <a:ext cx="1569960" cy="185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5" descr="j0237671"/>
          <p:cNvPicPr/>
          <p:nvPr/>
        </p:nvPicPr>
        <p:blipFill>
          <a:blip r:embed="rId1"/>
          <a:stretch/>
        </p:blipFill>
        <p:spPr>
          <a:xfrm>
            <a:off x="2658960" y="3287880"/>
            <a:ext cx="306360" cy="147924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22"/>
          <p:cNvSpPr/>
          <p:nvPr/>
        </p:nvSpPr>
        <p:spPr>
          <a:xfrm>
            <a:off x="506268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08120" y="166356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that passes through the focal point on the way to the mirror is reflected back parallel to the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19"/>
          <p:cNvGrpSpPr/>
          <p:nvPr/>
        </p:nvGrpSpPr>
        <p:grpSpPr>
          <a:xfrm>
            <a:off x="1994040" y="3745080"/>
            <a:ext cx="4898880" cy="2786040"/>
            <a:chOff x="1994040" y="3745080"/>
            <a:chExt cx="4898880" cy="2786040"/>
          </a:xfrm>
        </p:grpSpPr>
        <p:sp>
          <p:nvSpPr>
            <p:cNvPr id="760" name="Rectangle 5"/>
            <p:cNvSpPr/>
            <p:nvPr/>
          </p:nvSpPr>
          <p:spPr>
            <a:xfrm>
              <a:off x="1994040" y="3745080"/>
              <a:ext cx="4898880" cy="278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1" name="Picture 14" descr="j0237671"/>
            <p:cNvPicPr/>
            <p:nvPr/>
          </p:nvPicPr>
          <p:blipFill>
            <a:blip r:embed="rId1"/>
            <a:stretch/>
          </p:blipFill>
          <p:spPr>
            <a:xfrm>
              <a:off x="2568960" y="4031640"/>
              <a:ext cx="367560" cy="113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2" name="Group 6"/>
          <p:cNvGrpSpPr/>
          <p:nvPr/>
        </p:nvGrpSpPr>
        <p:grpSpPr>
          <a:xfrm>
            <a:off x="4770360" y="4149720"/>
            <a:ext cx="1567080" cy="2028960"/>
            <a:chOff x="4770360" y="4149720"/>
            <a:chExt cx="1567080" cy="2028960"/>
          </a:xfrm>
        </p:grpSpPr>
        <p:sp>
          <p:nvSpPr>
            <p:cNvPr id="763" name="AutoShape 7"/>
            <p:cNvSpPr/>
            <p:nvPr/>
          </p:nvSpPr>
          <p:spPr>
            <a:xfrm>
              <a:off x="5015520" y="4214520"/>
              <a:ext cx="1321920" cy="19000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8"/>
            <p:cNvSpPr/>
            <p:nvPr/>
          </p:nvSpPr>
          <p:spPr>
            <a:xfrm>
              <a:off x="4899600" y="4311000"/>
              <a:ext cx="1335240" cy="172368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9"/>
            <p:cNvSpPr/>
            <p:nvPr/>
          </p:nvSpPr>
          <p:spPr>
            <a:xfrm>
              <a:off x="4770360" y="4149720"/>
              <a:ext cx="761760" cy="20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Line 10"/>
          <p:cNvSpPr/>
          <p:nvPr/>
        </p:nvSpPr>
        <p:spPr>
          <a:xfrm flipH="1">
            <a:off x="2587320" y="517680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5173560" y="5040360"/>
            <a:ext cx="158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>
            <a:off x="2716200" y="4484520"/>
            <a:ext cx="349740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3"/>
          <p:cNvSpPr/>
          <p:nvPr/>
        </p:nvSpPr>
        <p:spPr>
          <a:xfrm flipH="1" flipV="1">
            <a:off x="3242880" y="5484600"/>
            <a:ext cx="2903400" cy="1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502452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43040" y="16192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3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headed towards the pole reflects back at an equal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1477800" y="3411360"/>
            <a:ext cx="5034240" cy="290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6"/>
          <p:cNvGrpSpPr/>
          <p:nvPr/>
        </p:nvGrpSpPr>
        <p:grpSpPr>
          <a:xfrm>
            <a:off x="3927600" y="3817800"/>
            <a:ext cx="1611000" cy="2113200"/>
            <a:chOff x="3927600" y="3817800"/>
            <a:chExt cx="1611000" cy="2113200"/>
          </a:xfrm>
        </p:grpSpPr>
        <p:sp>
          <p:nvSpPr>
            <p:cNvPr id="775" name="AutoShape 7"/>
            <p:cNvSpPr/>
            <p:nvPr/>
          </p:nvSpPr>
          <p:spPr>
            <a:xfrm>
              <a:off x="4179600" y="3885480"/>
              <a:ext cx="1359000" cy="1978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8"/>
            <p:cNvSpPr/>
            <p:nvPr/>
          </p:nvSpPr>
          <p:spPr>
            <a:xfrm>
              <a:off x="4060440" y="3985920"/>
              <a:ext cx="1373040" cy="17953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3927600" y="3817800"/>
              <a:ext cx="78336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Line 10"/>
          <p:cNvSpPr/>
          <p:nvPr/>
        </p:nvSpPr>
        <p:spPr>
          <a:xfrm flipH="1">
            <a:off x="1684440" y="48895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4343400" y="4746600"/>
            <a:ext cx="1584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2"/>
          <p:cNvSpPr/>
          <p:nvPr/>
        </p:nvSpPr>
        <p:spPr>
          <a:xfrm>
            <a:off x="1816200" y="4167360"/>
            <a:ext cx="362736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2073240" y="4898880"/>
            <a:ext cx="336888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5" descr="j0237671"/>
          <p:cNvPicPr/>
          <p:nvPr/>
        </p:nvPicPr>
        <p:blipFill>
          <a:blip r:embed="rId1"/>
          <a:stretch/>
        </p:blipFill>
        <p:spPr>
          <a:xfrm>
            <a:off x="1684440" y="3691080"/>
            <a:ext cx="384120" cy="12049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22"/>
          <p:cNvSpPr/>
          <p:nvPr/>
        </p:nvSpPr>
        <p:spPr>
          <a:xfrm>
            <a:off x="3633840" y="48322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2"/>
          <p:cNvSpPr/>
          <p:nvPr/>
        </p:nvSpPr>
        <p:spPr>
          <a:xfrm>
            <a:off x="5329080" y="4660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65240" y="603000"/>
            <a:ext cx="9169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three combined allow you to find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is example the image is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rt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iminish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1487520" y="3076560"/>
            <a:ext cx="6026040" cy="333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7" descr="j0237671"/>
          <p:cNvPicPr/>
          <p:nvPr/>
        </p:nvPicPr>
        <p:blipFill>
          <a:blip r:embed="rId1"/>
          <a:stretch/>
        </p:blipFill>
        <p:spPr>
          <a:xfrm>
            <a:off x="2195640" y="3419640"/>
            <a:ext cx="452160" cy="136188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8"/>
          <p:cNvGrpSpPr/>
          <p:nvPr/>
        </p:nvGrpSpPr>
        <p:grpSpPr>
          <a:xfrm>
            <a:off x="4902120" y="3560760"/>
            <a:ext cx="1928520" cy="2428560"/>
            <a:chOff x="4902120" y="3560760"/>
            <a:chExt cx="1928520" cy="2428560"/>
          </a:xfrm>
        </p:grpSpPr>
        <p:sp>
          <p:nvSpPr>
            <p:cNvPr id="789" name="AutoShape 9"/>
            <p:cNvSpPr/>
            <p:nvPr/>
          </p:nvSpPr>
          <p:spPr>
            <a:xfrm>
              <a:off x="5203800" y="3638520"/>
              <a:ext cx="1626840" cy="22744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10"/>
            <p:cNvSpPr/>
            <p:nvPr/>
          </p:nvSpPr>
          <p:spPr>
            <a:xfrm>
              <a:off x="5061240" y="3754080"/>
              <a:ext cx="1643400" cy="20635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1"/>
            <p:cNvSpPr/>
            <p:nvPr/>
          </p:nvSpPr>
          <p:spPr>
            <a:xfrm>
              <a:off x="4902120" y="3560760"/>
              <a:ext cx="937800" cy="24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12"/>
          <p:cNvSpPr/>
          <p:nvPr/>
        </p:nvSpPr>
        <p:spPr>
          <a:xfrm flipH="1">
            <a:off x="2217240" y="4791240"/>
            <a:ext cx="453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3"/>
          <p:cNvSpPr/>
          <p:nvPr/>
        </p:nvSpPr>
        <p:spPr>
          <a:xfrm>
            <a:off x="4699080" y="4641840"/>
            <a:ext cx="1908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"/>
          <p:cNvSpPr/>
          <p:nvPr/>
        </p:nvSpPr>
        <p:spPr>
          <a:xfrm>
            <a:off x="2374920" y="3960720"/>
            <a:ext cx="4102200" cy="14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5"/>
          <p:cNvSpPr/>
          <p:nvPr/>
        </p:nvSpPr>
        <p:spPr>
          <a:xfrm flipH="1" flipV="1">
            <a:off x="2344320" y="5438880"/>
            <a:ext cx="4071960" cy="1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"/>
          <p:cNvSpPr/>
          <p:nvPr/>
        </p:nvSpPr>
        <p:spPr>
          <a:xfrm>
            <a:off x="2386080" y="3952800"/>
            <a:ext cx="394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7"/>
          <p:cNvSpPr/>
          <p:nvPr/>
        </p:nvSpPr>
        <p:spPr>
          <a:xfrm flipH="1">
            <a:off x="2768400" y="3952800"/>
            <a:ext cx="3562200" cy="185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8"/>
          <p:cNvSpPr/>
          <p:nvPr/>
        </p:nvSpPr>
        <p:spPr>
          <a:xfrm>
            <a:off x="2386080" y="3952800"/>
            <a:ext cx="426564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9"/>
          <p:cNvSpPr/>
          <p:nvPr/>
        </p:nvSpPr>
        <p:spPr>
          <a:xfrm flipH="1">
            <a:off x="2525400" y="4791240"/>
            <a:ext cx="412596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2" descr="j0237671"/>
          <p:cNvPicPr/>
          <p:nvPr/>
        </p:nvPicPr>
        <p:blipFill>
          <a:blip r:embed="rId2"/>
          <a:stretch/>
        </p:blipFill>
        <p:spPr>
          <a:xfrm flipH="1" rot="10800000">
            <a:off x="3371760" y="4797360"/>
            <a:ext cx="358920" cy="10764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2"/>
          <p:cNvSpPr/>
          <p:nvPr/>
        </p:nvSpPr>
        <p:spPr>
          <a:xfrm>
            <a:off x="4224240" y="4336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2"/>
          <p:cNvSpPr/>
          <p:nvPr/>
        </p:nvSpPr>
        <p:spPr>
          <a:xfrm>
            <a:off x="6643800" y="45846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2"/>
          <p:cNvSpPr/>
          <p:nvPr/>
        </p:nvSpPr>
        <p:spPr>
          <a:xfrm>
            <a:off x="1633680" y="3041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2871720" y="58611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cav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(or converging)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rrors focus light at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3"/>
          <p:cNvSpPr/>
          <p:nvPr/>
        </p:nvSpPr>
        <p:spPr>
          <a:xfrm>
            <a:off x="700200" y="2724120"/>
            <a:ext cx="7699320" cy="32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8"/>
          <p:cNvGrpSpPr/>
          <p:nvPr/>
        </p:nvGrpSpPr>
        <p:grpSpPr>
          <a:xfrm>
            <a:off x="4470480" y="3198960"/>
            <a:ext cx="2463480" cy="2391840"/>
            <a:chOff x="4470480" y="3198960"/>
            <a:chExt cx="2463480" cy="2391840"/>
          </a:xfrm>
        </p:grpSpPr>
        <p:sp>
          <p:nvSpPr>
            <p:cNvPr id="809" name="AutoShape 9"/>
            <p:cNvSpPr/>
            <p:nvPr/>
          </p:nvSpPr>
          <p:spPr>
            <a:xfrm>
              <a:off x="4855680" y="3275640"/>
              <a:ext cx="2078280" cy="22402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4673880" y="3389400"/>
              <a:ext cx="2099160" cy="20322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1"/>
            <p:cNvSpPr/>
            <p:nvPr/>
          </p:nvSpPr>
          <p:spPr>
            <a:xfrm>
              <a:off x="4470480" y="3198960"/>
              <a:ext cx="1197720" cy="23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2"/>
          <p:cNvSpPr/>
          <p:nvPr/>
        </p:nvSpPr>
        <p:spPr>
          <a:xfrm flipH="1">
            <a:off x="1015560" y="4394160"/>
            <a:ext cx="5689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3"/>
          <p:cNvSpPr/>
          <p:nvPr/>
        </p:nvSpPr>
        <p:spPr>
          <a:xfrm>
            <a:off x="5600880" y="4205160"/>
            <a:ext cx="2376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4"/>
          <p:cNvSpPr/>
          <p:nvPr/>
        </p:nvSpPr>
        <p:spPr>
          <a:xfrm>
            <a:off x="1197000" y="3957480"/>
            <a:ext cx="54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5"/>
          <p:cNvSpPr/>
          <p:nvPr/>
        </p:nvSpPr>
        <p:spPr>
          <a:xfrm>
            <a:off x="1219320" y="3578400"/>
            <a:ext cx="50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"/>
          <p:cNvSpPr/>
          <p:nvPr/>
        </p:nvSpPr>
        <p:spPr>
          <a:xfrm>
            <a:off x="1241280" y="4830840"/>
            <a:ext cx="53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7"/>
          <p:cNvSpPr/>
          <p:nvPr/>
        </p:nvSpPr>
        <p:spPr>
          <a:xfrm>
            <a:off x="1195560" y="5210280"/>
            <a:ext cx="513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9"/>
          <p:cNvSpPr/>
          <p:nvPr/>
        </p:nvSpPr>
        <p:spPr>
          <a:xfrm flipH="1">
            <a:off x="4584240" y="3578400"/>
            <a:ext cx="1693800" cy="19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0"/>
          <p:cNvSpPr/>
          <p:nvPr/>
        </p:nvSpPr>
        <p:spPr>
          <a:xfrm flipH="1">
            <a:off x="4019040" y="3940200"/>
            <a:ext cx="259740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1"/>
          <p:cNvSpPr/>
          <p:nvPr/>
        </p:nvSpPr>
        <p:spPr>
          <a:xfrm flipH="1" flipV="1">
            <a:off x="4087800" y="3711240"/>
            <a:ext cx="255096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2"/>
          <p:cNvSpPr/>
          <p:nvPr/>
        </p:nvSpPr>
        <p:spPr>
          <a:xfrm flipH="1" flipV="1">
            <a:off x="4560480" y="3141720"/>
            <a:ext cx="1738440" cy="20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5214960" y="37846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42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vex Mirro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2396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mirrors have a focal point behind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(or diverging) mirrors spread the light rays apart so that they appear to have come from the focal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2023920" y="3657600"/>
            <a:ext cx="5088240" cy="290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4669920" y="4363920"/>
            <a:ext cx="1616400" cy="1600200"/>
            <a:chOff x="4669920" y="4363920"/>
            <a:chExt cx="1616400" cy="1600200"/>
          </a:xfrm>
        </p:grpSpPr>
        <p:sp>
          <p:nvSpPr>
            <p:cNvPr id="827" name="AutoShape 5"/>
            <p:cNvSpPr/>
            <p:nvPr/>
          </p:nvSpPr>
          <p:spPr>
            <a:xfrm flipH="1">
              <a:off x="4669560" y="4479480"/>
              <a:ext cx="1567080" cy="13597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6"/>
            <p:cNvSpPr/>
            <p:nvPr/>
          </p:nvSpPr>
          <p:spPr>
            <a:xfrm flipH="1">
              <a:off x="4767840" y="4581720"/>
              <a:ext cx="1349280" cy="118116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7"/>
            <p:cNvSpPr/>
            <p:nvPr/>
          </p:nvSpPr>
          <p:spPr>
            <a:xfrm flipH="1">
              <a:off x="5392080" y="4363920"/>
              <a:ext cx="8942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8"/>
          <p:cNvSpPr/>
          <p:nvPr/>
        </p:nvSpPr>
        <p:spPr>
          <a:xfrm>
            <a:off x="2075040" y="5156280"/>
            <a:ext cx="488448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09760" y="4876920"/>
            <a:ext cx="24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0"/>
          <p:cNvSpPr/>
          <p:nvPr/>
        </p:nvSpPr>
        <p:spPr>
          <a:xfrm>
            <a:off x="2292480" y="4584600"/>
            <a:ext cx="269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1"/>
          <p:cNvSpPr/>
          <p:nvPr/>
        </p:nvSpPr>
        <p:spPr>
          <a:xfrm>
            <a:off x="2360520" y="5410080"/>
            <a:ext cx="23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2"/>
          <p:cNvSpPr/>
          <p:nvPr/>
        </p:nvSpPr>
        <p:spPr>
          <a:xfrm>
            <a:off x="2327400" y="5715000"/>
            <a:ext cx="26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3"/>
          <p:cNvSpPr/>
          <p:nvPr/>
        </p:nvSpPr>
        <p:spPr>
          <a:xfrm>
            <a:off x="6151680" y="5041800"/>
            <a:ext cx="17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4"/>
          <p:cNvSpPr/>
          <p:nvPr/>
        </p:nvSpPr>
        <p:spPr>
          <a:xfrm>
            <a:off x="4971960" y="4584600"/>
            <a:ext cx="1179720" cy="57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5"/>
          <p:cNvSpPr/>
          <p:nvPr/>
        </p:nvSpPr>
        <p:spPr>
          <a:xfrm>
            <a:off x="4719600" y="4876920"/>
            <a:ext cx="143208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6"/>
          <p:cNvSpPr/>
          <p:nvPr/>
        </p:nvSpPr>
        <p:spPr>
          <a:xfrm flipV="1">
            <a:off x="4719600" y="5155920"/>
            <a:ext cx="1432080" cy="25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7"/>
          <p:cNvSpPr/>
          <p:nvPr/>
        </p:nvSpPr>
        <p:spPr>
          <a:xfrm flipV="1">
            <a:off x="5006880" y="5156280"/>
            <a:ext cx="1144800" cy="55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9"/>
          <p:cNvSpPr/>
          <p:nvPr/>
        </p:nvSpPr>
        <p:spPr>
          <a:xfrm flipH="1" flipV="1">
            <a:off x="3404880" y="3809880"/>
            <a:ext cx="1601640" cy="7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0"/>
          <p:cNvSpPr/>
          <p:nvPr/>
        </p:nvSpPr>
        <p:spPr>
          <a:xfrm flipH="1" flipV="1">
            <a:off x="2612520" y="4419720"/>
            <a:ext cx="214020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1"/>
          <p:cNvSpPr/>
          <p:nvPr/>
        </p:nvSpPr>
        <p:spPr>
          <a:xfrm flipH="1">
            <a:off x="2495160" y="5397480"/>
            <a:ext cx="22575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2"/>
          <p:cNvSpPr/>
          <p:nvPr/>
        </p:nvSpPr>
        <p:spPr>
          <a:xfrm flipH="1">
            <a:off x="3641400" y="5676840"/>
            <a:ext cx="1398600" cy="66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591984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0:23Z</dcterms:created>
  <dc:creator>Cashmere High School</dc:creator>
  <dc:description/>
  <dc:language>en-US</dc:language>
  <cp:lastModifiedBy>Leith</cp:lastModifiedBy>
  <cp:lastPrinted>2003-11-11T21:01:29Z</cp:lastPrinted>
  <dcterms:modified xsi:type="dcterms:W3CDTF">2012-03-12T08:28:16Z</dcterms:modified>
  <cp:revision>44</cp:revision>
  <dc:subject/>
  <dc:title>Light &amp; Waves</dc:title>
</cp:coreProperties>
</file>